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5E4-F9A7-462F-83A5-77ECE4E6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FF4-83BC-4F28-9889-D4923E21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A79-7012-41E5-81AC-32B676BD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5DE-4256-4E25-9C46-ACA060EB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F313-2B56-44CF-AE6E-4FA38533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7EA8-8972-4E41-86DC-40C387FA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9671-E000-4ED5-A19C-AC7F8E6E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7FC8-AA8B-41A5-80B9-F46298C2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588B-D381-43BF-BA41-FEB4DA77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0BA1-4B4C-4450-A1DD-94EDE9FD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799D-984C-4F8C-AD5B-38363CF4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F56-98FE-4D46-B2E5-957A23B7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A60A-3848-4448-B7AE-9CBE5A2A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9BBF-D338-43BB-89F2-A59389E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683E-D4A7-4EA3-A0FF-51D26ACA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4CDA-DF5C-4DA2-9E5D-66B5CE95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183A-2342-4325-A387-3C96D65D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4C9-D759-46ED-99A3-7C2B088B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BAF-0ECD-47D2-BC7A-4DD401B3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F28-B8D6-419D-B639-E54FFFA8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B22-9A2A-422A-90ED-25D1EED1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4FE-D0CC-4ED7-B1DE-EA6A6245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68A-981F-4785-9FCA-FFD1C1F2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2A2-4040-422B-85FC-1566FC0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FCE0-860C-4E19-AFDA-555031BAE2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E880-FEF6-4487-99E2-48EAEFEB69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Death which killed at least 38,000,000 people in forteenth century Europe and China slowed the worlds poplulation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nsw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Death, which killed at least 38 million people in fourteenth-century Europe and China, slowed the world’s population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Freewrite</a:t>
            </a:r>
            <a:br>
              <a:rPr sz="4000"/>
            </a:b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ocabulary Pract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artner and do the vocabulary squa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Great Gatsby-Ch.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hort summary of ch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o Do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ding homework, study for vocabulary qu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quiz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 your top and read on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4:18:56Z</dcterms:created>
  <dc:creator>rebecca</dc:creator>
  <dc:description/>
  <dc:language>en-US</dc:language>
  <cp:lastModifiedBy>rebecca</cp:lastModifiedBy>
  <dcterms:modified xsi:type="dcterms:W3CDTF">2009-02-11T19:41:54Z</dcterms:modified>
  <cp:revision>2</cp:revision>
  <dc:subject/>
  <dc:title>DOL</dc:title>
</cp:coreProperties>
</file>